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7362-CF1E-43BF-AFE6-ED6CEBA0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rite your individual response on a post-it notes (one idea on each post-it n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are with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oup them and look for themes and trends based on Core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 them around the graphic organizers of the Core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mplate should include 5 core capacities and allow for organization of pile up and ID of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8.5x11 paper to record themes (one per paper); tables post themes on wall with 5 core capacities (placed in a circular pattern); have some materials for tables to make connections (e.g. string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vite observations /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individual Core Capacities (legal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or the group (ledger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im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ime: 15- 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0A5-4A65-40D0-86F2-905337A2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D48-E4E8-432E-B709-50B70B94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40E-8540-4A9F-B100-D2366AC7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F33-8650-4D11-9DDE-7B50FE62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4181-0539-4849-AD74-B88F79BA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E86C-359F-4D2E-8340-48BE052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055-5777-4FCE-85F9-DFFBB7D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D5DF-722D-4497-A019-8DA30909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34FD-0C45-4E83-A13B-9F4B535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E420-3653-41F7-833B-398658E6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9814-129E-47A5-A73D-43BCF07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F90-D1D0-4B89-9165-440BB3E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F35-32F4-4B22-A3FB-D9FB651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05F-FB45-4666-91AC-61CAC413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3B1-5D93-4FF4-928F-6A850A9C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D552-AB32-4520-BF07-ED3F0F82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51B3-6F08-47E4-A523-5C96BF7A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F9C-6C7D-4C2A-BABA-A2A9102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80D-6B1F-4D00-BAF8-7C5EB459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DCE-2E58-4A24-AFBE-0346B75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DCD-5632-44EE-9D9D-66B7F87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619-9075-46CF-AAB1-71211A9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3CA-11F5-43D7-BC5D-9EABB99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3BC-308E-4975-8F37-2F350934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217D-97D7-4015-8C70-A70DEC4C9AF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1e73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F3E-6FF6-4271-9203-9CA9F94A89A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728280"/>
            <a:ext cx="57150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PLMLC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Leadership Ser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Thunder Bay Region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9640" y="4446720"/>
            <a:ext cx="579600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an Harrison, YRD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ie Quadrini, YCD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iday February 4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Activ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s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finements to Pla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district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refinements with small / whol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1-01-26T04:36:42Z</dcterms:modified>
  <cp:revision>101</cp:revision>
  <dc:subject/>
  <dc:title>Slide 1</dc:title>
</cp:coreProperties>
</file>